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275B-52DC-40D5-8635-215000A6E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1870-C4ED-4A1A-8CD4-48420971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988C-0F09-4797-A151-F2D7BE61F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D375-DD50-411A-9630-D5E4B7FD1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E638-64C6-49B6-97EC-3DE3BF06A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74ACE-39A8-40F4-B757-4D293658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CBF2-1A0F-4323-BFC1-AFE4A222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5CCE-413D-44DF-8115-E5F057F3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842A-147B-434C-B528-494F543F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505D3-EA39-400B-A3A9-EEC49916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0E54-E9ED-4B7F-A210-C71A3715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A773-240D-4BC6-B22D-627CD508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B97A-9103-4E70-BEB2-8B18E34E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35F6-2D9C-4792-A306-87E23650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4AC5-9E95-488F-9AE7-21ECE653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1BCC-1B0E-4440-ABD7-667845B51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CA10-B58F-4A42-B33F-03779C093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83B9-0656-429F-8DE0-8AADF237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9DAB-C361-41BA-A219-912AD06B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0E7F-1BDA-430E-8539-7C1DAE37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8D05-2B97-46C9-B943-499CA111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B953-7647-4136-A6A5-8A222ABE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BD5C-7E86-40E5-AC45-89C75D09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162A-F69F-471E-8B41-E8BACFAB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57F4-BC9B-4DCE-8349-14162419265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7FF4-2115-4514-AFE0-E5CEFEE4B84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66"/>
                </a:solidFill>
                <a:latin typeface="Arial"/>
              </a:rPr>
              <a:t>ЛИШНИЙ ВЕС</a:t>
            </a:r>
            <a:endParaRPr b="1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Или как съесть больше, а весить меньше!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ТО ЖЕ ДЕЛАЕТ НАС  ПОЛНЫМИ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14400" y="1981080"/>
          <a:ext cx="8001000" cy="4343400"/>
        </p:xfrm>
        <a:graphic>
          <a:graphicData uri="http://schemas.openxmlformats.org/drawingml/2006/table">
            <a:tbl>
              <a:tblPr/>
              <a:tblGrid>
                <a:gridCol w="2209680"/>
                <a:gridCol w="2590920"/>
                <a:gridCol w="3200400"/>
              </a:tblGrid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Black"/>
                        </a:rPr>
                        <a:t>ВИД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Black"/>
                        </a:rPr>
                        <a:t>КАЛОРИЙ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Black"/>
                        </a:rPr>
                        <a:t>КОЛИЧЕСТВО КАЛОРИЙ В 1 г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 Black"/>
                        </a:rPr>
                        <a:t>ПРОЦЕНТ ЭНЕРГИИ, НЕОБХОДИМОЙ ДЛЯ ОТЛОЖЕНИЯ В ЖИРОВУЮ ТКАНЬ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ЖИРЫ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 ккал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ГЛЕВОДЫ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 ккал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3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СНОВНЫЕ ИСТОЧНИКИ ЖИРА В НАШЕМ ПИТАН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5562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Мясо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5943600"/>
            <a:ext cx="7467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Рекомендация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: 3-4 ст. ложки в день растительного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                  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масла для здорового человека достаточно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705720" y="2514600"/>
            <a:ext cx="2057400" cy="127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629400" y="3886200"/>
            <a:ext cx="2057400" cy="107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6934320" y="4800600"/>
          <a:ext cx="44136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4320" y="4800600"/>
                    <a:ext cx="4413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7086600" y="5716440"/>
            <a:ext cx="1600200" cy="608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38080" y="41148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Молочные продукты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530208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Растительные масла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ФИЗИЧЕСКИЕ УПРАЖНЕ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315200" y="2438280"/>
            <a:ext cx="990720" cy="812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467480" y="3429000"/>
            <a:ext cx="1381320" cy="16765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086600" y="5257800"/>
            <a:ext cx="1822320" cy="1243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914400" y="3581280"/>
            <a:ext cx="6705720" cy="19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и занятия физкультурой 20 минут 2 раза в день, необходимо снизить потребление калорий только на 17% для достижения того же результат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5181480"/>
            <a:ext cx="6172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благодаря упражнениям повышается метаболизм и вы теряете вес даже во время отдых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2438280"/>
            <a:ext cx="6705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чтобы сбросить 0,5 кг в неделю необходимо снизить потребление калорий на 28%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ЛУЧШЕ НИКОГДА, ЧЕМ ПОЗДН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Активность на протяжении дня способствует сжиганию калорий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Поддержание температуры тела требует калорий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Температура тела максимальна в 2-3 часа дня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Вечером температура ниже, чем днём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При снижении активности и температуры тела сжигается меньше калорий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5486400"/>
            <a:ext cx="792468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«Я никогда не встречал полного человека, который бы не пропускал завтрак и не отказывался от ужина»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Times New Roman"/>
              </a:rPr>
              <a:t>Пэт Харпер, доктор Американской Диетической Ассоциации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657600" y="2438280"/>
            <a:ext cx="2033640" cy="39625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ТО ОБЩЕГО У ПОЛНЫХ   ЛЮДЕ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Любят плотный ужин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Завтракают мало, или вообще не завтракаю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Часто перекусываю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Едят быстро, не пережёвывая пищу как следуе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Не пьют достаточного количества вод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Малоподвижн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едпочитают пищу из очищенных продукт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Любят жирную пищ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ЭФФЕКТИВНАЯ ПРОГРАММА СНИЖЕНИЯ ВЕС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743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Снизьте употребление жиров и очищенной пищи, включите в свой рацион продукты, богатые клетчаткой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Упражняйтесь ежедневно 40 минут в день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Откажитесь от ужина, или сделайте его лёгким и ранним (за 4 часа до сна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Не перекусывайте, вместо этого пейте воду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257800" y="3124080"/>
            <a:ext cx="3598920" cy="3468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ОПРЕДЕЛЕНИЯ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вышенный вес – 10…19% выше норм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жирение – 20% и больше выше норм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ЕКОМЕНДУЕМЫЙ ВЕС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14400" y="2666880"/>
          <a:ext cx="8001000" cy="4033800"/>
        </p:xfrm>
        <a:graphic>
          <a:graphicData uri="http://schemas.openxmlformats.org/drawingml/2006/table">
            <a:tbl>
              <a:tblPr/>
              <a:tblGrid>
                <a:gridCol w="2000160"/>
                <a:gridCol w="2000520"/>
                <a:gridCol w="2000160"/>
                <a:gridCol w="2000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ст,        см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ла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я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ольша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-4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-5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-5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-5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-5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-5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-5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-5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-6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-5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-6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-6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-5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-6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-7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-6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-6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-7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-6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-7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-7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1295280" y="19051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женщины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040600" y="228600"/>
            <a:ext cx="646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" dur="1" fill="hold"/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ЕКОМЕНДУЕМЫЙ ВЕС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19051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ужчины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914400" y="2433600"/>
          <a:ext cx="8001000" cy="4271760"/>
        </p:xfrm>
        <a:graphic>
          <a:graphicData uri="http://schemas.openxmlformats.org/drawingml/2006/table">
            <a:tbl>
              <a:tblPr/>
              <a:tblGrid>
                <a:gridCol w="2000160"/>
                <a:gridCol w="2000520"/>
                <a:gridCol w="2000160"/>
                <a:gridCol w="2000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ст,        см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ла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я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ольша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7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-56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-60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-65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-59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-6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-69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-62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-67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-7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-66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-71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-77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-70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-75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-81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-7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-79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-81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-7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-84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-90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-81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-8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-95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086600" y="228600"/>
            <a:ext cx="175248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НДЕКС МАССЫ ТЕЛ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3648240"/>
            <a:ext cx="586728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МТ = ВЕС : (РОСТ в МЕТРАХ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6472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4800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МТ=18.5 до 26.9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ТРАДАЮЩИЕ ОЖИРЕНИЕМ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Имеют в 3 раза больше риск инфарк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 4 раза больше склонны к повышенному давлению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 5 раз чаще болеют диабето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ероятность повышенного уровня холестерина в 5 раз больш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 6 раз чаще страдают болезнями желчного пузыр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Чаще болеют рако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Более склонны к депресс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629400" y="5029200"/>
            <a:ext cx="1539720" cy="1600200"/>
            <a:chOff x="6629400" y="5029200"/>
            <a:chExt cx="1539720" cy="160020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6629400" y="5029200"/>
              <a:ext cx="153972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6629400" y="5029200"/>
              <a:ext cx="1539720" cy="160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3366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214280" y="2362320"/>
          <a:ext cx="671688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2362320"/>
                    <a:ext cx="671688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1371600" y="11430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685800"/>
            <a:ext cx="746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Ожирение и риск смертности от рака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ОБОВАЛИ СЕСТЬ НА ДИЕТУ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27432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«Из 100 человек, садящихся на диету для похудания, 95 набирают свой прежний вес, и даже превышают его, в течение года»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октор Ганс Дэй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 rot="10200">
            <a:off x="1676160" y="2819520"/>
            <a:ext cx="60958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47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ardvark"/>
              </a:rPr>
              <a:t>СЮРПРИЗ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47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ardvark"/>
              <a:ea typeface="Aardvark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519588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Arial"/>
              </a:rPr>
              <a:t>ПОЧЕМУ ?</a:t>
            </a:r>
            <a:endParaRPr b="0" lang="en-US" sz="8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543800" y="228600"/>
            <a:ext cx="114300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ЭФФЕКТ ВРЕМЕННЫХ            ДИЕ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для эффективного сжигания жиров необходимо достаточное количество калорий, особенно из углевод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на недостаточное количество калорий организм реагирует замедлением метаболизм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 ответ на голодание организм начинает расщеплять клетки мышц для восполнения недостающих калор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и использовании строгих диет и голодании снижение веса происходит в основном за счёт потери мышечной массы и вод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8T17:41:05Z</dcterms:created>
  <dc:creator>Ostapenco</dc:creator>
  <dc:description/>
  <dc:language>en-US</dc:language>
  <cp:lastModifiedBy>Черевичная Вера Петровна</cp:lastModifiedBy>
  <dcterms:modified xsi:type="dcterms:W3CDTF">2007-01-23T10:13:30Z</dcterms:modified>
  <cp:revision>24</cp:revision>
  <dc:subject/>
  <dc:title>ЛИШНИЙ ВЕС</dc:title>
</cp:coreProperties>
</file>